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B73-C75B-4897-81AC-0C57139B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0BE-5820-4BDA-8F1C-4858DB9A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6D1-AF32-46E2-9A44-FCEC86BD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9E4-1F33-4A21-8A86-3FCFD08A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B45-CA1D-42D5-9312-6626B02C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9F6-E3F4-4C3A-9360-AD720C98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949-43F8-45E1-A938-64BF42F6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12F-2D2B-41D2-9AA2-687B1730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87C-BA26-46E4-BE64-56E7F86B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357-9CBF-46AB-A9CF-D9222EFA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4DC-9156-4B86-86B3-C0C27593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000-5097-418D-99FE-A48252E6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B42B-8BF3-44D9-8EEB-A562A162A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3352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 Black"/>
                <a:ea typeface="Times New Roman"/>
              </a:rPr>
              <a:t>RED CLAY CONSOLIDATED SCHOOL DISTRI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 Black"/>
                <a:ea typeface="Arial Unicode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Emergency Response Guid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434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edClay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5791320"/>
            <a:ext cx="84582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     _____________  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’s name                                   Room number                              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cua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95280"/>
            <a:ext cx="7086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’s name_________________________________   extension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m number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98108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describe escape routes and outside meeting areas.  Indicate any alternate routes for physically challenged per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0481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724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114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257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7913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vacua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cy Equipment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4479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rite the location of each of the following.  If the item is not needed, write N/A (not applic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828800"/>
            <a:ext cx="8610480" cy="65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infectants: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ergency shower: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t: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yewash: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alarm: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blanket: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extinguisher: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ggles: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 aprons: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ill kits and clean-up materials: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phone/intercom: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mergency Equipment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533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 #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447920"/>
            <a:ext cx="86104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, police, ambulance: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9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name and extension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a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name and extension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chair/team leader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m number/extension: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ct Science Specialis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dward McGrath         (302) 993-23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ckinson High School, Room A105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: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609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 #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39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Medical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47920"/>
            <a:ext cx="541008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Nurse’s office _________  or Main office 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write extension in bla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the following inform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jured person’s name and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our name, location, and telephon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HANG 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Remain on the line until the dispatcher disconn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990720"/>
            <a:ext cx="27432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administer first aid; th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rse’s responsibility.  If a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reatening situation exists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iting for medical personnel is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le, only administer life s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on if you are prop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ined and if you will not be pla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t risk of inj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circumstances permit, pro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zardous information abou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ffending substances (e.g. na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, MSDS) to me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n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09880"/>
            <a:ext cx="5257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the injured par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intain crowd contro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move the injured person  unless there is danger of further inj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also applies if the person is conscious and able to  move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sistance.  Keep the person warm and continually reass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injury was the result of chemical or biological contamination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e procedures as outlined below under “chemical    spills”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iological spil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990720"/>
            <a:ext cx="0" cy="51051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948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75248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752480"/>
            <a:ext cx="39625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in Contact with Chemical or Biological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contaminated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mic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d affected skin with copious am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water for at least 15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ologic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Wash affected area with soap and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everal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injured person to the nur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ll relevant information about off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incident to building principal.  If injured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student, call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752480"/>
            <a:ext cx="38862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ye Contact with Chemical or Biological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od eyes with copious am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water from eyewash for at least 15 minutes. 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e a portable eyewash squeeze bo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on the nurse immediately to the injured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ll relevant information about off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incident to building principal.  If inj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a student, call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952880"/>
            <a:ext cx="39625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or Puncture Wounds and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 injury with soap and water for several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injured party to the nurse.  Do not cover w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it has been seen by medical personnel.  I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ed party is a student, call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4267080"/>
            <a:ext cx="358164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or Burns (skin is not brok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affected area wi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ater (not ice)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injured party to the nurse.  If inj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a student, call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urn has broken the skin, treat as mi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re wound or c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990720"/>
            <a:ext cx="0" cy="51051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39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Personal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0948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00200"/>
            <a:ext cx="845820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cuate the immediate area of the inci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y the main office and your department chair or team leader.  If warranted, activate the fire al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any injuries as indicated above.  Meet with nurse or emergency personnel to furnish all relevant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emergency personnel with MSDS of chemical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members’ responsibility in an emergency is to the students.  Supervise all students.  Teachers at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assist other teachers and the adminis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incident to building principal.  If injured person is a student, call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pecific incidents, see the appropriate headings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3760" y="640080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rit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0948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447920"/>
            <a:ext cx="891540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biological Culture S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area of the spill.  Students should move away from the general area of the spill to confine the contaminated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ould leave any belongings in the area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personal protective equipment (PPE) as needed before de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tationary objects (e.g. desks, benches) that were contaminated should be flooded with 10 % bleach solution for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utes, then wiped clean with disposable paper towels (not a sponge or mop).  Paper towels should be discard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hazardous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minated clothing must be removed from the wearer and sterilized by autoclaving (121º C and 15 psi for 15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being retur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minated skin should be washed several minutes with soap and water.  If injury has occurred, summon the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glass should be disposed of in a red biohazard bag, not the conventional sharps bo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he spill to the department chair, the nurse, and the principal.  If injury occurred to a student, also notify the parent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31760" y="6400800"/>
            <a:ext cx="46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iolog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0948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8915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mical S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area of the spill.  Students should move away from the general area of the spill to confine the contaminated area. 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essary, evacuate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aterial is flammable, turn off heat sources and gas jets.  Increase ventilation by activating fume hoods or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if possible and safe to do 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personal protective equipment (PPE) a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ll is manageable, use the appropriate cleanup and disposal methods as outlined by the MSDS.  If this is not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size of the spill, the hazardous nature of the chemicals, or other reasons, report the incident to the Main Offic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ing what resources are needed to clean up the spill.  Provide emergency personnel with the MSDS of the sp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one was injured as a result of the spill, summon the nurse and provide the MSDS.  If the injured party was a stud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y the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y the department chair, the principal, and the Secondary Science Specia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1240" y="6400800"/>
            <a:ext cx="45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m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0948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76520"/>
            <a:ext cx="899172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Procedu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 the fire alarm and assist with evacuating the school.  Notify the principal of relevant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 911 from an outside telephone line.  Provide the fire location, what happened, details of any injuries, and your n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phon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ossible, confine the fire by closing the hood sash or closing doors and windows.  If this is an electrical fire, disconnec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electricity if possible.  However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re is any question of whether these measures can be done safely,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empt them.  Evacu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886200"/>
            <a:ext cx="91440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thing on fi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earer should “stop, drop, and roll” to extinguish flames.  If possible, flames should be smothered with a fire blan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fected body parts should be drenched with cool water from a faucet or (preferred) a safety sh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jured person must be examined by licensed medical personnel as soon as possible, even if no injury or discomfor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he incident to the principal, the nurse, and the Secondary Science Specia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6324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228600"/>
            <a:ext cx="723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zardous Was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066680"/>
            <a:ext cx="82296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of Personn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ersonnel (students, staff, faculty) may not work in unsupervised positions until they have received hazard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nformation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will receive annual hazardous chemical information training.  The Secondary Science Spe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maintain records of current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048120"/>
            <a:ext cx="82296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zardous Was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azardous waste containers must be labeled with the contents.  No abbreviations, trade names, or form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be used.  If possible, a brief description of the hazardous nature should be stated (e.g. flammable, corro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zardous waste containers should be tightly closed except when waste is being added.  Containers sh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d away from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zardous waste containers must be removed within 90 days of being fill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zardous waste must be disposed of as indicated by the MSDS.  Teachers should take care that incompat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are disposed of separately to prevent a dangerous combination.  If hazardous waste must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osed of professionally, contact the Secondary Science Specialist to ar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Hazardous Was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143000"/>
            <a:ext cx="79246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below any special procedures or considerations that are specific for this room.  Be sure to indicate the names and contact information of relevant resource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m number:______________         School: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971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05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038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8672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Special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51:09Z</dcterms:created>
  <dc:creator>Administrator</dc:creator>
  <dc:description/>
  <dc:language>en-US</dc:language>
  <cp:lastModifiedBy>Administrator</cp:lastModifiedBy>
  <dcterms:modified xsi:type="dcterms:W3CDTF">2005-04-28T13:01:07Z</dcterms:modified>
  <cp:revision>15</cp:revision>
  <dc:subject/>
  <dc:title>PowerPoint Presentation</dc:title>
</cp:coreProperties>
</file>